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89A7A3-AC72-4974-8204-D5378F09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7F14AD-405B-47C2-AC54-A501CBBFAD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D43DCC-2F27-47A1-AD70-218E620892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5A9D17-49AA-4055-9902-5922C1059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682E37-49F6-4A1D-BC2E-77B45AA5B2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3015AC-C817-4BB0-8404-11F664C84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D43363-8C01-4AA0-BA6B-0BE5BFFAEF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E21C82-7F9A-4605-A76A-35038C841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A43481-4F81-44AB-9E5B-8E15B938B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AA505A-B3D2-42EE-A4C4-ACFD3C8D3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DB9562-521C-4F04-9FF1-CEDC887EE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063EA5-F6E5-42E6-8E2D-B9F73149B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87B667-9E1A-44FD-8235-336989747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513BE8-1959-46AA-A6FB-B1B335FBD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CF4-56FC-4BD6-996F-87D857CB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114-8663-492C-A33C-1A2DD86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2DD-002C-408B-B9BA-C5B8276E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C38-E52A-4D01-8F3B-F5E53EA3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E19B-6BA4-4230-8904-925DF4B5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DB08-9C4E-465D-9A6C-B8F7FAC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B516-AF38-455C-9831-822EC467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FEBF-DC53-4784-B6A8-9BA5C798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5767-27A6-4130-AB20-3D6D14B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05A5-0D54-4400-8C78-F2A8BF96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C17C-686D-497A-BD87-58BFF03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240-9E09-42DA-91A7-0EAB003B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1C8-C19D-46FE-BAFC-9865658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242C-0840-4C54-9514-013EB4B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D6E-7091-4181-813A-AA50060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24A1-3767-4D3A-B4C0-D158C66D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824-BBED-405B-95AA-16904AE9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7A5-4B16-4B49-A78C-21584D6F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A8D-E239-450E-B5FE-90E9C38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7EA-624E-49FE-880A-D7B7347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381-4579-4C83-B3E9-230E9935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70D-14D0-4584-8603-0A05EBD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DFD-390C-491E-9153-7FF6365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AE7-7453-47DF-910E-C70A726C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AFE-BDC8-4BFB-AD4F-1F27AF767E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A832-7744-4A01-A8B0-48FAE783C0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ewmorepics.myspace.com/index.cfm?fuseaction=viewImage&amp;friendID=5488415&amp;albumID=252611&amp;imageID=45303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295280" y="20574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h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133720" y="2514600"/>
            <a:ext cx="495288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is on ground or low…and looking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powerful or sup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_13ff5a6cc3c8f15d93893596f2114cd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86200"/>
            <a:ext cx="26668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0" y="45684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 ang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35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mera looks down on the su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bject on the screen is weak or infer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14600" y="1096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l_9d4bd62a10d17a8af91e60a4ef5ee1fd"/>
          <p:cNvPicPr/>
          <p:nvPr/>
        </p:nvPicPr>
        <p:blipFill>
          <a:blip r:embed="rId1"/>
          <a:stretch/>
        </p:blipFill>
        <p:spPr>
          <a:xfrm>
            <a:off x="1143000" y="1905120"/>
            <a:ext cx="3200400" cy="23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t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e is diagonal, crook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ggests action or excit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hing abnormal is going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l_27c0f56de526d76fab1e0c3201e21d06"/>
          <p:cNvPicPr/>
          <p:nvPr/>
        </p:nvPicPr>
        <p:blipFill>
          <a:blip r:embed="rId1"/>
          <a:stretch/>
        </p:blipFill>
        <p:spPr>
          <a:xfrm>
            <a:off x="380880" y="2057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95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a per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people from hea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t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body sho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1451912704_l"/>
          <p:cNvPicPr/>
          <p:nvPr/>
        </p:nvPicPr>
        <p:blipFill>
          <a:blip r:embed="rId1"/>
          <a:stretch/>
        </p:blipFill>
        <p:spPr>
          <a:xfrm>
            <a:off x="5562720" y="1905120"/>
            <a:ext cx="28224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um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atures the person from about the waist to the h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1381080703_l"/>
          <p:cNvPicPr/>
          <p:nvPr/>
        </p:nvPicPr>
        <p:blipFill>
          <a:blip r:embed="rId1"/>
          <a:stretch/>
        </p:blipFill>
        <p:spPr>
          <a:xfrm>
            <a:off x="34290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5520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-u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atures a person’s head and should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are close to the 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le to more clearly recognize facial express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l_b338cceeabaf40d97b4e20e4042afe26"/>
          <p:cNvPicPr/>
          <p:nvPr/>
        </p:nvPicPr>
        <p:blipFill>
          <a:blip r:embed="rId1"/>
          <a:stretch/>
        </p:blipFill>
        <p:spPr>
          <a:xfrm>
            <a:off x="4724280" y="358128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reme Close-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osest we can get to a person or ob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ye, mouth, watch, doorknob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1168813263_l"/>
          <p:cNvPicPr/>
          <p:nvPr/>
        </p:nvPicPr>
        <p:blipFill>
          <a:blip r:embed="rId1"/>
          <a:stretch/>
        </p:blipFill>
        <p:spPr>
          <a:xfrm>
            <a:off x="5943600" y="38098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_4eff2cf6aeee56857c9ab5710b0c874c"/>
          <p:cNvPicPr/>
          <p:nvPr/>
        </p:nvPicPr>
        <p:blipFill>
          <a:blip r:embed="rId2"/>
          <a:stretch/>
        </p:blipFill>
        <p:spPr>
          <a:xfrm>
            <a:off x="990720" y="4419720"/>
            <a:ext cx="1904760" cy="142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orknob_closeup-750x600"/>
          <p:cNvPicPr/>
          <p:nvPr/>
        </p:nvPicPr>
        <p:blipFill>
          <a:blip r:embed="rId3"/>
          <a:stretch/>
        </p:blipFill>
        <p:spPr>
          <a:xfrm>
            <a:off x="3276720" y="4343400"/>
            <a:ext cx="236196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eye%2520close%2520up"/>
          <p:cNvPicPr/>
          <p:nvPr/>
        </p:nvPicPr>
        <p:blipFill>
          <a:blip r:embed="rId4"/>
          <a:stretch/>
        </p:blipFill>
        <p:spPr>
          <a:xfrm>
            <a:off x="3886200" y="3048120"/>
            <a:ext cx="182880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ablishing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shot of a sce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lls where the action will be taking pl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a buil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ig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 a tit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146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you can click the picture to move forward. until you get to the end."/>
          <p:cNvPicPr/>
          <p:nvPr/>
        </p:nvPicPr>
        <p:blipFill>
          <a:blip r:embed="rId1"/>
          <a:stretch/>
        </p:blipFill>
        <p:spPr>
          <a:xfrm>
            <a:off x="5181480" y="1828800"/>
            <a:ext cx="24386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6"/>
          <p:cNvGrpSpPr/>
          <p:nvPr/>
        </p:nvGrpSpPr>
        <p:grpSpPr>
          <a:xfrm>
            <a:off x="1714680" y="1285920"/>
            <a:ext cx="5143320" cy="360"/>
            <a:chOff x="1714680" y="1285920"/>
            <a:chExt cx="5143320" cy="360"/>
          </a:xfrm>
        </p:grpSpPr>
        <p:sp>
          <p:nvSpPr>
            <p:cNvPr id="120" name="Rectangle 7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714680" y="1285920"/>
              <a:ext cx="51433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5562720" y="4114800"/>
            <a:ext cx="1904760" cy="1828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al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Before"/>
          <p:cNvPicPr/>
          <p:nvPr/>
        </p:nvPicPr>
        <p:blipFill>
          <a:blip r:embed="rId2"/>
          <a:stretch/>
        </p:blipFill>
        <p:spPr>
          <a:xfrm>
            <a:off x="609480" y="3733920"/>
            <a:ext cx="32004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the shoulder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22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ck of person’s head=foregrou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haracter’s head=background, but it is in fo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know the character is talking to some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4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OTS"/>
          <p:cNvPicPr/>
          <p:nvPr/>
        </p:nvPicPr>
        <p:blipFill>
          <a:blip r:embed="rId1"/>
          <a:stretch/>
        </p:blipFill>
        <p:spPr>
          <a:xfrm>
            <a:off x="4038480" y="2438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0620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hot with 2 people in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l_59d29de8971e6a11bd99086a4c3993e4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3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49:30Z</dcterms:created>
  <dc:creator>Administrator</dc:creator>
  <dc:description/>
  <dc:language>en-US</dc:language>
  <cp:lastModifiedBy>Ferris, Erin</cp:lastModifiedBy>
  <dcterms:modified xsi:type="dcterms:W3CDTF">2014-05-19T12:35:45Z</dcterms:modified>
  <cp:revision>16</cp:revision>
  <dc:subject/>
  <dc:title>Slide 1</dc:title>
</cp:coreProperties>
</file>